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3A2-7C02-40E3-873B-0F5648E4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FD1-7A5E-492A-94B0-9F3EC93B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2AD-61A5-4843-948E-440CC8F3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6D0-7909-4C59-B98D-6A1AEE2B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56E-C836-4A92-B41B-674F2D1F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94F-063F-49B2-986B-3F525BF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910-20C1-4A8A-B977-15B3ED5D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2BA-97B8-43D8-A00B-DB8967D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B41-B599-4BD3-AFE2-AF97581A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263-43F6-4067-AD82-ACF9C55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29E-596F-4620-B4BC-8B53601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EEB-CD42-4078-96C5-43E0DCD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DCF-CBA6-40E7-80DE-9C41BFC06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5000"/>
            </a:b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Sometimes we need help when we’re working toward a goal or trying to solve a problem.  When should we work together?  When should we work alone?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day we will read about some animals traveling to Bremen Town.  We will read about how and why they work together.  When have you worked with oth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8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oday we will read about Bat.  Bat is alone and sad.  What might make Bat feel better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me animals work as teams.  What things might an animal need help with?  Today we will read about how some animals work toget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3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week we read about animals helping each other to live and enjoy life.  Some formed a singing group, some cheered up unhappy friends, and some kept each other safe and clean.  Why is it often better to work with other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0-08T18:26:56Z</dcterms:modified>
  <cp:revision>42</cp:revision>
  <dc:subject/>
  <dc:title> Morning Warm- Up! The cat needs some water.  The dog wants a bone.  That bird lives in a birdhouse where she feels quite at home.  How do people take care of pets?</dc:title>
</cp:coreProperties>
</file>